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C4C4-BA12-4B1D-B317-260C85EF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E76A-BE74-45DD-86A2-685B5D7D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C06C-0028-47CF-91E5-98B474B8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C78D-53CB-45A6-935E-392B96D45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0B2E-5EEC-43EF-BC29-183AF67A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C3A7-8DF3-48B2-935C-CCE93CEC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DD81-DA4D-4125-97C2-B81A8224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078B-672A-43C7-B136-A18102B2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9AF4-BD04-40DD-A3E4-41472A87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F2EA-4375-4C2E-8E80-16E8D470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314-D0B2-4A08-9BE9-BDC31D64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12D-CD2D-4236-8239-413622E3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425E-9DAE-43D3-ADAF-61BE6433E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Pollution and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2057400"/>
            <a:ext cx="7010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ndwater Conta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ied, leaking gasoline t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up very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lution not a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1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Water Intr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tewater Trea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ic tank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stewater Treatment Plan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your primary, secondary, advanced water treatments (see pg 481, remember field trip and pi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stewater renovation and Con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deral Reg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Water Act of 1972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ed multiple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ed in 1987 to include stormwater reg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MPs used by gov agencies and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ed in 2000 to include non-point sourc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Agents of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ver modification / d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ber harv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b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 sup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otic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lerated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rban Water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Point Source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Source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 Run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xic comp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sticides, insecticides, herbic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borne Dise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cal Coliform Bacteria 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ents and Eutroph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il Pol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xon  Valdez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il tanker: Prince William Sound: Alaska : 1989 (10 million gall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epwater Horiz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il platform: Gulf of Mexico: 2010 Largest recorded marine oil spill in his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3,000 barrels a day for almost 3 months (total spilled = 4.9 million barrels (42 gallons per barrel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ti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oil tanker: Spanish Coast: 2002 (20 million gall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essic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il tanker: Equador : 2001: (100,000 gallons): threatened the Galapagos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bout 50 others since 19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 Mine Drain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447920"/>
            <a:ext cx="854064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ulfuric ac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coal and metal m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ite 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minates surface and ground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old m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0:34:06Z</dcterms:created>
  <dc:creator>tosborne</dc:creator>
  <dc:description/>
  <dc:language>en-US</dc:language>
  <cp:lastModifiedBy>tosborne</cp:lastModifiedBy>
  <dcterms:modified xsi:type="dcterms:W3CDTF">2012-02-29T00:50:45Z</dcterms:modified>
  <cp:revision>7</cp:revision>
  <dc:subject/>
  <dc:title>Slide 1</dc:title>
</cp:coreProperties>
</file>